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F60-6963-4A13-8C0E-9E7E586F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501-36FF-4E7D-B42A-29B06DE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40B-DF79-4D2C-A66A-1B17304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F75-342E-444B-AD70-BD2784B2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E0BB-40CF-4E8A-8485-99430E2C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1220-9E5D-46A0-A36E-14591C9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971-250A-41E2-BFC6-8C468FB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061-9074-4276-95DF-5DEC748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BF13-97CD-49F8-AC41-93A9A54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E24F-6976-4187-9832-56F72FD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023-588F-4484-A8F4-29987A1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CC0-CB76-439F-BCEE-1FD49DB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B50-8787-4E61-A645-BE3FD34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25C0-E000-469B-8112-BDA03BD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A2F-DDAB-45D3-8D1C-07F2CB4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DA2-8B91-4143-8F10-66889DAA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1AD-CD7E-4386-8243-A6598A28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B93-6A7D-4AF1-8B8F-9EA5F97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523-39F4-4704-A1D3-F60A9755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C50-43EE-4037-9012-C3A08EE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013-3E68-4070-ACD2-CE75398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5A3-97C5-4141-A375-4951F7F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382-98E7-4329-B768-22F8386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FC6-7573-4DE2-ABCC-D3018A7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6E9D-AE17-4C45-AFE2-0F679545E9E2}" type="slidenum">
              <a: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FCA9-1B48-4E4F-AAED-CE6D4C661CEC}" type="slidenum">
              <a:rPr b="0" lang="en-US" sz="2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A2D-D8CC-42C4-905C-C2EE2B464052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5640" y="575640"/>
            <a:ext cx="8173080" cy="27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TW" sz="4800" spc="-1" strike="noStrike">
                <a:solidFill>
                  <a:srgbClr val="003366"/>
                </a:solidFill>
                <a:latin typeface="標楷體"/>
                <a:ea typeface="標楷體"/>
              </a:rPr>
              <a:t>「廉政公約」具體行動方案。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untitled"/>
          <p:cNvPicPr/>
          <p:nvPr/>
        </p:nvPicPr>
        <p:blipFill>
          <a:blip r:embed="rId1"/>
          <a:stretch/>
        </p:blipFill>
        <p:spPr>
          <a:xfrm>
            <a:off x="0" y="5300640"/>
            <a:ext cx="4643280" cy="1557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572000" y="5300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  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報告人：莊麗檬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內容版面配置區 10" descr=""/>
          <p:cNvPicPr/>
          <p:nvPr/>
        </p:nvPicPr>
        <p:blipFill>
          <a:blip r:embed="rId1"/>
          <a:stretch/>
        </p:blipFill>
        <p:spPr>
          <a:xfrm>
            <a:off x="901800" y="1736640"/>
            <a:ext cx="8413560" cy="5322960"/>
          </a:xfrm>
          <a:prstGeom prst="rect">
            <a:avLst/>
          </a:prstGeom>
          <a:ln w="0">
            <a:noFill/>
          </a:ln>
        </p:spPr>
      </p:pic>
      <p:sp>
        <p:nvSpPr>
          <p:cNvPr id="124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78F6-B997-483C-9838-9EDA01AEEBC2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五邊形 11"/>
          <p:cNvSpPr/>
          <p:nvPr/>
        </p:nvSpPr>
        <p:spPr>
          <a:xfrm>
            <a:off x="0" y="3429000"/>
            <a:ext cx="2484360" cy="142092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1420920"/>
              <a:gd name="textAreaBottom" fmla="*/ 1421280 h 14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a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標楷體"/>
              </a:rPr>
              <a:t>(</a:t>
            </a: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一</a:t>
            </a:r>
            <a:r>
              <a:rPr b="1" i="1" lang="en-US" sz="2800" spc="-1" strike="noStrike">
                <a:solidFill>
                  <a:srgbClr val="003366"/>
                </a:solidFill>
                <a:latin typeface="標楷體"/>
              </a:rPr>
              <a:t>)</a:t>
            </a: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強化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3366"/>
                </a:solidFill>
                <a:latin typeface="標楷體"/>
              </a:rPr>
              <a:t>機關廉政風險評估</a:t>
            </a:r>
            <a:endParaRPr b="1" i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內容版面配置區 4" descr=""/>
          <p:cNvPicPr/>
          <p:nvPr/>
        </p:nvPicPr>
        <p:blipFill>
          <a:blip r:embed="rId1"/>
          <a:stretch/>
        </p:blipFill>
        <p:spPr>
          <a:xfrm>
            <a:off x="719280" y="2060640"/>
            <a:ext cx="8474040" cy="4668840"/>
          </a:xfrm>
          <a:prstGeom prst="rect">
            <a:avLst/>
          </a:prstGeom>
          <a:ln w="0">
            <a:noFill/>
          </a:ln>
        </p:spPr>
      </p:pic>
      <p:sp>
        <p:nvSpPr>
          <p:cNvPr id="128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8F23-C27D-4492-856E-27118AF5E4F9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內容版面配置區 4" descr=""/>
          <p:cNvPicPr/>
          <p:nvPr/>
        </p:nvPicPr>
        <p:blipFill>
          <a:blip r:embed="rId1"/>
          <a:stretch/>
        </p:blipFill>
        <p:spPr>
          <a:xfrm>
            <a:off x="249120" y="1542960"/>
            <a:ext cx="8894880" cy="5424480"/>
          </a:xfrm>
          <a:prstGeom prst="rect">
            <a:avLst/>
          </a:prstGeom>
          <a:ln w="0">
            <a:noFill/>
          </a:ln>
        </p:spPr>
      </p:pic>
      <p:sp>
        <p:nvSpPr>
          <p:cNvPr id="131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E839-22D3-4D61-93B5-5B2B0EAECCC5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0C7-F8C0-4CD4-AFCE-C51CC1241BFA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內容版面配置區 2" descr=""/>
          <p:cNvPicPr/>
          <p:nvPr/>
        </p:nvPicPr>
        <p:blipFill>
          <a:blip r:embed="rId1"/>
          <a:stretch/>
        </p:blipFill>
        <p:spPr>
          <a:xfrm>
            <a:off x="828720" y="2193840"/>
            <a:ext cx="77295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1980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內容版面配置區 4" descr=""/>
          <p:cNvPicPr/>
          <p:nvPr/>
        </p:nvPicPr>
        <p:blipFill>
          <a:blip r:embed="rId1"/>
          <a:stretch/>
        </p:blipFill>
        <p:spPr>
          <a:xfrm>
            <a:off x="755640" y="2335320"/>
            <a:ext cx="7791480" cy="3852720"/>
          </a:xfrm>
          <a:prstGeom prst="rect">
            <a:avLst/>
          </a:prstGeom>
          <a:ln w="0">
            <a:noFill/>
          </a:ln>
        </p:spPr>
      </p:pic>
      <p:sp>
        <p:nvSpPr>
          <p:cNvPr id="137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09C-AB24-4BE0-87A1-059471181FC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2548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內容版面配置區 6" descr=""/>
          <p:cNvPicPr/>
          <p:nvPr/>
        </p:nvPicPr>
        <p:blipFill>
          <a:blip r:embed="rId1"/>
          <a:stretch/>
        </p:blipFill>
        <p:spPr>
          <a:xfrm>
            <a:off x="828720" y="2266920"/>
            <a:ext cx="7729560" cy="4475160"/>
          </a:xfrm>
          <a:prstGeom prst="rect">
            <a:avLst/>
          </a:prstGeom>
          <a:ln w="0">
            <a:noFill/>
          </a:ln>
        </p:spPr>
      </p:pic>
      <p:sp>
        <p:nvSpPr>
          <p:cNvPr id="14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A40C-A9E7-4802-BA99-32F31A372F82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處理及檢討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內容版面配置區 4" descr=""/>
          <p:cNvPicPr/>
          <p:nvPr/>
        </p:nvPicPr>
        <p:blipFill>
          <a:blip r:embed="rId1"/>
          <a:stretch/>
        </p:blipFill>
        <p:spPr>
          <a:xfrm>
            <a:off x="804960" y="2365200"/>
            <a:ext cx="8192880" cy="4364280"/>
          </a:xfrm>
          <a:prstGeom prst="rect">
            <a:avLst/>
          </a:prstGeom>
          <a:ln w="0">
            <a:noFill/>
          </a:ln>
        </p:spPr>
      </p:pic>
      <p:sp>
        <p:nvSpPr>
          <p:cNvPr id="14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A18-97F2-4C50-AE38-062F3BD94FC6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處理及檢討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內容版面配置區 5" descr=""/>
          <p:cNvPicPr/>
          <p:nvPr/>
        </p:nvPicPr>
        <p:blipFill>
          <a:blip r:embed="rId1"/>
          <a:stretch/>
        </p:blipFill>
        <p:spPr>
          <a:xfrm>
            <a:off x="85680" y="2346480"/>
            <a:ext cx="8809200" cy="4511520"/>
          </a:xfrm>
          <a:prstGeom prst="rect">
            <a:avLst/>
          </a:prstGeom>
          <a:ln w="0">
            <a:noFill/>
          </a:ln>
        </p:spPr>
      </p:pic>
      <p:sp>
        <p:nvSpPr>
          <p:cNvPr id="146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682-0FC3-4A37-A711-D0EA613B6EE1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向右箭號 6"/>
          <p:cNvSpPr/>
          <p:nvPr/>
        </p:nvSpPr>
        <p:spPr>
          <a:xfrm>
            <a:off x="0" y="3573360"/>
            <a:ext cx="2556000" cy="1204920"/>
          </a:xfrm>
          <a:prstGeom prst="rightArrow">
            <a:avLst>
              <a:gd name="adj1" fmla="val 86806"/>
              <a:gd name="adj2" fmla="val 49998"/>
            </a:avLst>
          </a:prstGeom>
          <a:solidFill>
            <a:srgbClr val="33cc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廉政風險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處理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八、廉政風險檢討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內容版面配置區 1" descr=""/>
          <p:cNvPicPr/>
          <p:nvPr/>
        </p:nvPicPr>
        <p:blipFill>
          <a:blip r:embed="rId1"/>
          <a:stretch/>
        </p:blipFill>
        <p:spPr>
          <a:xfrm>
            <a:off x="828720" y="2346480"/>
            <a:ext cx="7711920" cy="3755880"/>
          </a:xfrm>
          <a:prstGeom prst="rect">
            <a:avLst/>
          </a:prstGeom>
          <a:ln w="0">
            <a:noFill/>
          </a:ln>
        </p:spPr>
      </p:pic>
      <p:sp>
        <p:nvSpPr>
          <p:cNvPr id="15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349-0744-4C36-91DB-226869145171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投影片編號版面配置區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07B8-F937-465C-B843-875EA0E2A9B6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5c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7030a0"/>
                </a:solidFill>
                <a:latin typeface="Arial"/>
                <a:ea typeface="標楷體"/>
              </a:rPr>
              <a:t>九、結語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內容版面配置區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6670800" cy="41752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7680" y="2276640"/>
            <a:ext cx="7692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一、前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二、適用機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三、適用對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四、適用範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五、廉政公約目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六、廉政風險的具體作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七、廉政風險之預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八、廉政風險處理及檢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九、結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070E-59FC-4F53-A9FE-7932B6CF724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投影片編號版面配置區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341-78D5-4A31-8B44-1FE8CCB8AE8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2773440"/>
            <a:ext cx="8440200" cy="188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s for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your attention !! 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484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66"/>
                </a:solidFill>
                <a:latin typeface="標楷體"/>
                <a:ea typeface="標楷體"/>
              </a:rPr>
              <a:t>一、前言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2320"/>
            <a:ext cx="83059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依據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一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法務部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7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月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日法授廉字第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700054160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號函頒修 正「國家廉政建設行動方案」具體作為中「落實公務員行為規範，建立政府典範」之規定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二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行政院訂頒之「公務員倫理規範」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、臺南市政府政風處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1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2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月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5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簽奉市長核准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796-2F75-40C6-A620-B3B7423AAE3F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10800" y="405720"/>
            <a:ext cx="7779600" cy="100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二、廉政公約適用機關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內容版面配置區 4" descr=""/>
          <p:cNvPicPr/>
          <p:nvPr/>
        </p:nvPicPr>
        <p:blipFill>
          <a:blip r:embed="rId1"/>
          <a:stretch/>
        </p:blipFill>
        <p:spPr>
          <a:xfrm>
            <a:off x="853920" y="1835280"/>
            <a:ext cx="8052120" cy="5351400"/>
          </a:xfrm>
          <a:prstGeom prst="rect">
            <a:avLst/>
          </a:prstGeom>
          <a:ln w="0">
            <a:noFill/>
          </a:ln>
        </p:spPr>
      </p:pic>
      <p:sp>
        <p:nvSpPr>
          <p:cNvPr id="106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6E7A-04D5-45C9-B2A5-B89E79CB3C37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三、廉政公約適用對象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內容版面配置區 4" descr=""/>
          <p:cNvPicPr/>
          <p:nvPr/>
        </p:nvPicPr>
        <p:blipFill>
          <a:blip r:embed="rId1"/>
          <a:stretch/>
        </p:blipFill>
        <p:spPr>
          <a:xfrm>
            <a:off x="828720" y="2322360"/>
            <a:ext cx="771192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289-1FA9-4363-A173-C612C803C114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04760" y="293400"/>
            <a:ext cx="771552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                            </a:t>
            </a: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四、廉政公約適用範圍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內容版面配置區 2" descr=""/>
          <p:cNvPicPr/>
          <p:nvPr/>
        </p:nvPicPr>
        <p:blipFill>
          <a:blip r:embed="rId1"/>
          <a:stretch/>
        </p:blipFill>
        <p:spPr>
          <a:xfrm>
            <a:off x="378000" y="2189160"/>
            <a:ext cx="8821440" cy="4687920"/>
          </a:xfrm>
          <a:prstGeom prst="rect">
            <a:avLst/>
          </a:prstGeom>
          <a:ln w="0">
            <a:noFill/>
          </a:ln>
        </p:spPr>
      </p:pic>
      <p:sp>
        <p:nvSpPr>
          <p:cNvPr id="112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1A1C-C165-47FD-A38C-4E011C291AE3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標楷體"/>
                <a:ea typeface="標楷體"/>
              </a:rPr>
              <a:t>五、廉政公約目標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EB07-0407-40BF-9F0E-BFFE57CAA9ED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內容版面配置區 6" descr=""/>
          <p:cNvPicPr/>
          <p:nvPr/>
        </p:nvPicPr>
        <p:blipFill>
          <a:blip r:embed="rId1"/>
          <a:stretch/>
        </p:blipFill>
        <p:spPr>
          <a:xfrm>
            <a:off x="706320" y="2292480"/>
            <a:ext cx="7980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六、</a:t>
            </a:r>
            <a:r>
              <a:rPr b="0" lang="zh-TW" sz="4800" spc="-1" strike="noStrike">
                <a:solidFill>
                  <a:srgbClr val="006666"/>
                </a:solidFill>
                <a:latin typeface="標楷體"/>
                <a:ea typeface="標楷體"/>
              </a:rPr>
              <a:t>廉政風險的具體作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內容版面配置區 4" descr=""/>
          <p:cNvPicPr/>
          <p:nvPr/>
        </p:nvPicPr>
        <p:blipFill>
          <a:blip r:embed="rId1"/>
          <a:stretch/>
        </p:blipFill>
        <p:spPr>
          <a:xfrm>
            <a:off x="841320" y="2346480"/>
            <a:ext cx="7686720" cy="3755880"/>
          </a:xfrm>
          <a:prstGeom prst="rect">
            <a:avLst/>
          </a:prstGeom>
          <a:ln w="0">
            <a:noFill/>
          </a:ln>
        </p:spPr>
      </p:pic>
      <p:sp>
        <p:nvSpPr>
          <p:cNvPr id="118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C06-2086-4472-AFCB-82C601F22565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1160" y="-40680"/>
            <a:ext cx="78058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          </a:t>
            </a:r>
            <a:r>
              <a:rPr b="1" lang="zh-TW" sz="3600" spc="-1" strike="noStrike">
                <a:solidFill>
                  <a:srgbClr val="006666"/>
                </a:solidFill>
                <a:latin typeface="標楷體"/>
                <a:ea typeface="標楷體"/>
              </a:rPr>
              <a:t>七、廉政風險預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內容版面配置區 4" descr=""/>
          <p:cNvPicPr/>
          <p:nvPr/>
        </p:nvPicPr>
        <p:blipFill>
          <a:blip r:embed="rId1"/>
          <a:stretch/>
        </p:blipFill>
        <p:spPr>
          <a:xfrm>
            <a:off x="85680" y="682560"/>
            <a:ext cx="9167760" cy="6059520"/>
          </a:xfrm>
          <a:prstGeom prst="rect">
            <a:avLst/>
          </a:prstGeom>
          <a:ln w="0">
            <a:noFill/>
          </a:ln>
        </p:spPr>
      </p:pic>
      <p:sp>
        <p:nvSpPr>
          <p:cNvPr id="121" name="投影片編號版面配置區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B19-7CDF-450A-A9C0-37CD6C1D49FD}" type="slidenum">
              <a:rPr b="1" lang="en-US" sz="26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1" i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07:02Z</dcterms:created>
  <dc:creator>莊麗檬</dc:creator>
  <dc:description/>
  <dc:language>en-US</dc:language>
  <cp:lastModifiedBy>user</cp:lastModifiedBy>
  <cp:lastPrinted>2017-07-26T08:07:20Z</cp:lastPrinted>
  <dcterms:modified xsi:type="dcterms:W3CDTF">2023-08-04T03:39:10Z</dcterms:modified>
  <cp:revision>881</cp:revision>
  <dc:subject/>
  <dc:title>投影片 1</dc:title>
</cp:coreProperties>
</file>